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3D5-35FE-45A1-BE68-85D8A8DD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19B-8F53-43FA-9485-EF2FE54F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B27-713D-4A6D-887B-38F68FF4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D70-E735-4C4A-AF25-55FED467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486-6D43-471D-B873-62D1B757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204-1485-4134-B2E0-EE60DC53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4DF-94A9-48F6-BCD2-1E41D380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BE1-221C-4778-8147-DD4B7D22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130-B229-4AE0-8344-6D829775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7B8-D3DA-4E31-A2F5-AB120999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63D-FD56-4F4F-857A-CEC11C4C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0F5-A317-4E8E-8E83-5690FAF7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3F9D-4259-4059-99F2-908E8F3D6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39" b="948"/>
          <a:stretch/>
        </p:blipFill>
        <p:spPr>
          <a:xfrm>
            <a:off x="411120" y="509760"/>
            <a:ext cx="825012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29200" y="640080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pyright © 2005 – 2006 MES-Englis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4400" y="12952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il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66680" y="137160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ai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90720" y="129528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n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114300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torm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66680" y="12952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i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1450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24280" y="12952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un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05320" y="9907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rtly clo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114300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e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1450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43200" y="1066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eautiful / per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23800"/>
            <a:ext cx="8210520" cy="580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1219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1030" b="0"/>
          <a:stretch/>
        </p:blipFill>
        <p:spPr>
          <a:xfrm>
            <a:off x="411120" y="504720"/>
            <a:ext cx="8234280" cy="5846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1523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l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450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13716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gg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1450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66680" y="8380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ou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5:27:44Z</dcterms:created>
  <dc:creator>User</dc:creator>
  <dc:description/>
  <dc:language>en-US</dc:language>
  <cp:lastModifiedBy>a</cp:lastModifiedBy>
  <dcterms:modified xsi:type="dcterms:W3CDTF">2006-09-14T09:54:11Z</dcterms:modified>
  <cp:revision>2</cp:revision>
  <dc:subject/>
  <dc:title>Slide 1</dc:title>
</cp:coreProperties>
</file>